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71045"/>
        <c:axId val="13187342"/>
      </c:barChart>
      <c:catAx>
        <c:axId val="61471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87342"/>
        <c:crosses val="autoZero"/>
        <c:auto val="1"/>
        <c:lblAlgn val="ctr"/>
        <c:lblOffset val="100"/>
        <c:noMultiLvlLbl val="0"/>
      </c:catAx>
      <c:valAx>
        <c:axId val="13187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71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8A0E-76BA-4F9E-922E-C97D4CF2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CACD-CD81-4706-AA59-44086DF3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D92-839A-47F1-BEB8-E229F325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D5F-C977-4711-9320-54F427DD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3682-E15A-4700-B6D6-22E79B74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713-64E1-4DB5-B6C1-050A92DE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997E-A238-47F0-ACCD-0C19D51A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1EE-C1AD-4AC5-96AE-6D49E5CE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AAD3-BA5D-4A67-9E7D-4594752D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3B7F-3BDB-43E9-B545-FA832EB2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C66A-6AC5-45C2-BE15-DE228F83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C267-1A6F-4C05-9987-E1AEF4A8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A1E46-372A-4E1F-86F6-A35D2A7151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