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807"/>
        <c:axId val="97148534"/>
      </c:barChart>
      <c:catAx>
        <c:axId val="4011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8534"/>
        <c:crosses val="autoZero"/>
        <c:auto val="1"/>
        <c:lblAlgn val="ctr"/>
        <c:lblOffset val="100"/>
        <c:noMultiLvlLbl val="0"/>
      </c:catAx>
      <c:valAx>
        <c:axId val="97148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F83-9352-4B88-A47B-057BAAD1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EAA-FFB6-46F3-A0EC-482A1C12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30E-1A36-4695-9C71-57DFF9E0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B2C-735C-450E-ADC9-40C5D048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F9D-1270-4757-8490-CC78B6F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D68-5BEA-47F9-B5B2-69FFF5D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285-4E70-4CC4-924F-DC17FCD4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864-8912-48FE-BF3D-44D22D1B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425-1FBD-4144-A08E-8232425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528-D285-4054-AFBF-C5F91481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A80-19E6-46BB-9E27-85F2282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829-CE21-4139-8E5F-5B9A594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AE1EA-C12C-42C0-94C1-E45874506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